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D45-4CFD-4CF3-BB79-BD18258E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46C-65D0-4965-B37E-80D7B081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92C-557A-49F3-92C5-46AE1383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037-EE72-4D42-8A77-423FDD3E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EBB-B7FE-49FA-98FE-FB70579B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33D-4D90-40CF-B06E-BEDF06FE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5AB-5D86-498C-B586-96A814BF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A33-AB0C-43F0-ADE7-FC3972E3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AAF-A8D2-481D-9EF6-30610A87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C77-4124-4400-92C9-8246CF3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D58-00A8-425F-AE5C-BE68D709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052-E51D-4862-A202-C2149F21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FC28D-D1D3-4688-ABB3-4AF7F4587D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758B7-AE6A-457F-9309-0102870A7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US involvement in Vietnam help stop the spread of communis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we will do to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Cornell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/ contrast Korea and 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3:36:34Z</dcterms:created>
  <dc:creator>Craig Rush</dc:creator>
  <dc:description/>
  <dc:language>en-US</dc:language>
  <cp:lastModifiedBy>Craig Rush</cp:lastModifiedBy>
  <dcterms:modified xsi:type="dcterms:W3CDTF">2012-02-21T13:38:13Z</dcterms:modified>
  <cp:revision>1</cp:revision>
  <dc:subject/>
  <dc:title>Vietnam</dc:title>
</cp:coreProperties>
</file>